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93F8-FA81-410A-9EA2-532226AC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46DD-B20D-49D5-B87B-129E7137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3EF9-7CDE-4B82-BA98-8BE9A6ACE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8D06-4F97-4619-8761-7DAD1AE11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C80F-1BDB-4B3C-928D-3CDD76B41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F5F2-1C8A-45C5-9342-4E141130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74C5-EF5B-414D-B69F-FE79D26A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3380-A0EB-420A-A4AD-67886B8C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BBEC-EF46-4139-ADFD-C1920655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B76B-EB50-4333-9780-F1C140E6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ADBD-F2F4-4E3C-9F26-8CED91B2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CDD7-9C9E-49B3-987A-A4D61EF4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51C5-C7B8-45A5-9411-F0A82966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1C16-A8E0-4043-A0F6-37F53F06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66B2-EF56-4866-8435-7C7043B0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DA9E-26CA-431D-8F44-1295D3594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651E-3981-43C2-B94F-C83CDDD19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0C12-9052-4CB2-A937-0559116B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EF55-9782-42ED-9EC8-B1AD6AC6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E096-06BC-4562-89F6-B5C50853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CE48-E70A-44BA-A2A4-CA9706F0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32F4-3998-4DE2-978A-D4EC217F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1DCD-BA6A-42DA-9B46-33466105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BE4D-113E-4345-BDC3-12E65781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029C-951D-4E99-87E3-0108F9FDA5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DC01-6FE3-47CB-8470-FE7C24D3D2C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0001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it Review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ic Acids, Proteins, &amp; Protein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981080" y="1294920"/>
            <a:ext cx="6934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DNA differ from R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oxyribose sugar vs. Ribose su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ymine vs. Ura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e stranded vs. Single str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we call a three base code of amino aci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ss by which DNA is transferred to mRNA is known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057040" y="609120"/>
            <a:ext cx="70866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4 main groups of protein struc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ry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ary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tiary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ternary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step in Protein Synthesis begins whe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molecule “unzip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dons that end protein synthesis are known 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contains the genetic code for the synthesis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DNA code for isoleucine is T-A-G, then the anticodon on the tRNA i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-A-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roteins are made up of 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amino acids are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DNA stand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oxyribonucle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218960" y="456840"/>
            <a:ext cx="79246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4 of the 8 types of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1812"/>
                </a:solidFill>
                <a:latin typeface="Arial"/>
              </a:rPr>
              <a:t>Struc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1812"/>
                </a:solidFill>
                <a:latin typeface="Arial"/>
              </a:rPr>
              <a:t>Regul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1812"/>
                </a:solidFill>
                <a:latin typeface="Arial"/>
              </a:rPr>
              <a:t>Contrac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1812"/>
                </a:solidFill>
                <a:latin typeface="Arial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1812"/>
                </a:solidFill>
                <a:latin typeface="Arial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1812"/>
                </a:solidFill>
                <a:latin typeface="Arial"/>
              </a:rPr>
              <a:t>Prot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1812"/>
                </a:solidFill>
                <a:latin typeface="Arial"/>
              </a:rPr>
              <a:t>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1812"/>
                </a:solidFill>
                <a:latin typeface="Arial"/>
              </a:rPr>
              <a:t>Enzy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s link amino acids together using this type of reacti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hydration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RNA stand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bonucle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types of RNA we stud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 are made in this part, the ________ of the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bo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pH and temperature can ________ a protein (ie: eg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ino acids are held together by ________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pt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ypes of amino acids 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ess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codons 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uilding blocks of proteins are known 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ino acids are made up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xyl group – CO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ino group – N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-group or Side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don that starts protein synthesis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U-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0039"/>
                </a:solidFill>
                <a:latin typeface="Arial"/>
              </a:rPr>
              <a:t>The following is a DNA sequence. Create the correct RNA sequence broken down into codons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3828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CACCCATGTGCGTA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14600" y="3352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48769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GUGGGUACACGCAU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495680"/>
            <a:ext cx="6172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Convert the codons to the correct Amino acid sequence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2057400"/>
            <a:ext cx="6400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G – Start co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GG - Tryptop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UA - Va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C - Histi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CA - Alan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AA – Stop co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otides are composed of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ibose sugar, phosphate, and a nitrogen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were the co-discoverers of the structure of DNA, the “molecule of life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 &amp; Cr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given species DNA, the number of guanine molecules will always be equal to the number of these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tos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can be referred to as a ladder. What forms the backbone and what are the ru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ar and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en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nitrogen bases are considered puri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enine &amp; Guan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nitrogen bases are considered pyrimidi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tosine &amp; Thy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20:56:25Z</dcterms:created>
  <dc:creator>Justin</dc:creator>
  <dc:description/>
  <dc:language>en-US</dc:language>
  <cp:lastModifiedBy>nbdoe</cp:lastModifiedBy>
  <dcterms:modified xsi:type="dcterms:W3CDTF">2008-04-16T12:00:01Z</dcterms:modified>
  <cp:revision>8</cp:revision>
  <dc:subject/>
  <dc:title>Unit Review </dc:title>
</cp:coreProperties>
</file>